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1EF1-5232-422F-83F5-55E023098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C43F-900B-4B14-83E3-02DDC7A95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1953-8A6B-4959-BA21-65ECB8E5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CB05-BF3D-4D73-8E6D-BB25B36E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89B-9FA1-46B7-B7F2-D8EA8536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D39-743E-4425-BFE0-BC165AF3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321F-4E56-4BE9-A106-1786BAF7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E128-F1DB-4700-9BAD-23ADA033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6B0E-4498-4468-A701-33DAECF2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9F0-4F56-4C44-B0EC-39EE4587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6D3-231D-44BD-8F38-0AD51A83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D0D8-A24A-4505-BED8-6E433830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F1E2-412E-4F15-A107-BAF4D4DB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B3A-41D6-478E-96CD-3925A6FE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B152-9EBF-4BD4-8490-2799E0542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thy Hum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thy Humal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thy Humal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athy Humala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47772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8288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Kathy. Yo vivo en New York. Tengo catorce años. Yo tengo dos hermanas y un hermano. Yo soy joven. Mi gusta jugar muchos deportes y tambien mi gusta comer mucho.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60948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Vamos en la manana para pasar todo la dia junt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amiga cuando y dond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s pues claro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okay pues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ieren ir a jugar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4:56:33Z</dcterms:modified>
  <cp:revision>107</cp:revision>
  <dc:subject/>
  <dc:title>Profile</dc:title>
</cp:coreProperties>
</file>